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FE66-378B-4140-AD1A-E89E20D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E4FB-A8B4-4D64-833C-7826382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7551-87FD-4468-8CE7-E821965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6CC1-4DB2-45EB-92D2-1BB1F510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283-3279-4C91-AA7C-C5BDEE81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3FB-D5F9-418F-8CE2-1CC58377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573-D6C0-4A1B-86E4-8BA844F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FB62-D824-4CE6-ADDB-52BF4E80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8556-6978-462C-A2DD-0622ED06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EA3E-A35D-4E0F-8DF2-42F34016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2041-4299-4902-8A46-E4940FB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24E4-5DA4-480B-9D2D-BD08E5E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3F2-4C93-407D-ADD9-9A879C16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C783-06E9-4048-9D73-FCC75C10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BF1-049A-4AB8-95E9-7665481B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5244-29C7-4BAD-BFF5-C737267C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C14-D251-4F34-8215-0679B947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4C4E-6CB1-41DE-988A-A2ADB70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FC6EA-9484-4C35-9382-55C1B10B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9459-D4A6-456C-934C-427FBB07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38DE-CA25-41F6-8850-7CB4E210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1559-DDE3-47C6-A124-FAB8985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ADE1-BE0A-4794-897E-CD7992F7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EC63-2887-448F-9B6F-2DE93A4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AA8E-0912-4653-B0EF-650C6C2C07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17B-6A42-430E-B11D-77E6071F94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4952880"/>
            <a:ext cx="281952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ing up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 vs. Midia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95680" y="0"/>
            <a:ext cx="464832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3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s left to try Israel, v. 1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e people provoked the Lord, v. 5-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erves the king of Mesopotamia (Cushan-rishathaim) for eight years, v.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niel raised as their delive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s the king of Mesopota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vers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enjoys peace for forty years, v. 9-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95680" y="0"/>
            <a:ext cx="464832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in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ab smot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laved 18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ed to the Lord, v. 12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hud kills Eglon, king of Mo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ys ten thousand Moa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rests 80 year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5-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mgar delivers Israel from the Philistines, v.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4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ites again rebel against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 into the hands of Jabin, king of Canaan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981080" y="1066680"/>
            <a:ext cx="236232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371240" y="2362320"/>
            <a:ext cx="30481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819160" y="373356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95680" y="152280"/>
            <a:ext cx="4648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ied unto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aised up Deborah and Barak to deliver them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3-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ber the Kenite, v. 1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k attacked Jabin’s army at the Kisho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army totally destroye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2-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era, captain of Jabin's army esc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ed the tent of Jael, the wife of H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lled by a woman while hiding, v. 17-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990360" y="2743200"/>
            <a:ext cx="32763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8915400" cy="68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5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 v. 2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V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Terry Benton</cp:lastModifiedBy>
  <dcterms:modified xsi:type="dcterms:W3CDTF">2005-02-06T13:12:04Z</dcterms:modified>
  <cp:revision>12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